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A2A-1724-44CB-A219-F9B7F65D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AA7-59D8-4D5B-A22B-303BFF0C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61A3-ED4B-480D-9DCD-DEC1D64F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CBD-6C4F-415A-8A39-6281FC49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6A4C-608B-4633-A8D7-74CF6C65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8C6F-C7FA-4F65-B5E9-1A0313E8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25D8-F314-4462-8452-FDAF4E07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65F5-4172-423E-AEF9-E353EA8F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46A6-34D4-412F-88DB-8FBD5A7B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42D5-0FBC-4B3D-B42F-9D43D737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F0D6-99CF-4E08-ABDF-66EC8B40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683-A047-4AB2-B24C-93204BFB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87DF-3287-4F4B-B74C-25FE8056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2D1E-2392-4879-87ED-83C52AA0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B224-BEAA-445E-B6BC-07BF8C41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0C90-25FE-4F69-B878-347321D6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A5CC-2EAC-4F39-A87C-ECEEC12C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78A-29D5-4D08-AD1F-A0CC74CB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3EA-9B9A-4E13-B6DC-5AB1D976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B96-0575-444F-98C0-2F51B82E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DD4-2546-4341-908D-312776DB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F0D-4E02-4871-AA6D-7BCB3D7E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283-706E-4CF0-9C1A-A7E76D1A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7F1-D3C5-413B-B6B3-7EF11BA0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cc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0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2560-2C8C-4D13-8EF3-F7653CFDF1D5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F28E-B3E6-4188-9DF1-CC09D637C2AC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Verdana"/>
              </a:rPr>
              <a:t>Me llamo ________ clase 8 im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Verdana"/>
              </a:rPr>
              <a:t>La fecha es el 4 de diciembre del 2012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Propósito # 18: 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¿Cómo repasamos para “Quiz 1/2” del capitulo 8 el jue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Texto: Copia y responde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Verdana"/>
              </a:rPr>
              <a:t>Actividad 5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p. 27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Tarea # 18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QUIZ 1/2  ON THURSDAY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Study Vocabulary p. 266-27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4:28:47Z</dcterms:created>
  <dc:creator>Helen Zumaeta</dc:creator>
  <dc:description/>
  <dc:language>en-US</dc:language>
  <cp:lastModifiedBy>Helen Zumaeta</cp:lastModifiedBy>
  <dcterms:modified xsi:type="dcterms:W3CDTF">2012-12-06T20:53:24Z</dcterms:modified>
  <cp:revision>3</cp:revision>
  <dc:subject/>
  <dc:title>Me llamo ________ clase 8 im La fecha es el 4 de diciembre del 2012</dc:title>
</cp:coreProperties>
</file>